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6CA-AC76-47E6-B6BA-454DB5FC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CB8-863C-4837-88B5-077D9F9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6A8-625C-4D53-A4F9-6622B33D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53B-1257-4A92-B67F-B6E17A21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598-B7A5-4ADE-9275-C1B40F33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0BAD-F8D9-4390-9B55-B4B5B6B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3DD1-150C-4E78-A5DC-B124CBC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0E3-07AF-4634-B171-51240326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1C82-5DD9-4262-B82D-72877A5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302-E501-41B1-9599-A57D59C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C97C-E03D-48A7-84EA-F7E0F99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1A0-0679-4375-BBC6-E44769A5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D361-E341-4254-AC7B-C060D2D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FF3-FC0F-43A9-8F15-F94081C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CA78-BB1C-4B7B-92F7-1B4E094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9B82-FF58-452C-BF19-458AB6C5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541B-C0E6-416C-9E42-F035B1E9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084-6103-4C7B-A0DA-C81BFBCB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FB6-8134-49FF-BDFB-CF79EAA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09E-616B-495E-AEAF-43902E7D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6F7-A070-4BC8-B147-0706C2B1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534-2173-42E6-8E9A-6A33E51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8C7-9FB5-4DB8-8ECA-121CF51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B0D-9B77-4371-BA92-CF33B8D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1CB-659A-4B6A-834C-E99798718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0F3-ABFB-4472-9138-71F832E2B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720" y="1752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mory C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3880" y="17524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3640" y="1752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01480" y="2895480"/>
            <a:ext cx="21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ll word #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79240" y="27432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barras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96840" y="281952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of immin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6280" y="30481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e the m as in “double troubl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52240" y="281952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epa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9600" y="320040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a rat in 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3800" y="2971800"/>
            <a:ext cx="64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urpr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0360" y="3168720"/>
            <a:ext cx="38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r’s and two s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8920" y="312408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cemet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136960" y="312408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three e’s as in eeec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05320" y="28954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ll Word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13640" y="312408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counc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47920" y="243828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ociate the c with “circle” – the form used for seating this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94880" y="3124080"/>
            <a:ext cx="42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aning of m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6760" y="3124080"/>
            <a:ext cx="64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refers to sense of right or wr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04880" y="320040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ning of personn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800" y="316872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 (nou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30000" y="320040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ning of immigr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3240" y="3168720"/>
            <a:ext cx="47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enter another coun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35400" y="320040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lma m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2971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chool from which he or she graduates or the school s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815920" y="325440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pectivel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82800" y="3219480"/>
            <a:ext cx="49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n the order indicat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57400" y="3429000"/>
            <a:ext cx="52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name of the sign that mean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informal wri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93440" y="320040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mpersand (&amp;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2160" y="3168720"/>
            <a:ext cx="59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nderlin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5800" y="2666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words, letters, signs, and numbers referred to, NOT for their meaning but for their for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5280" y="342900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o we use quotation mark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89280" y="3168720"/>
            <a:ext cx="58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s that are published as parts of another work: short stories, poems, articles, songs, one act plays, chapters, and essay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71600" y="312408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mark of punctuation glues two words together to make one wor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02920" y="30481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yp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9240" y="312408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Word #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8280" y="3352680"/>
            <a:ext cx="53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numbers are hyphena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051280" y="3200400"/>
            <a:ext cx="45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enty-one to ninety-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78840" y="331776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it called when a female pet is alter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09680" y="274320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00840" y="314964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yed, not sp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590920" y="334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3276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a single male graduate call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2971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03960" y="3276720"/>
            <a:ext cx="76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ords can be used to replace bough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33280" y="33526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ore-bought, ready-made, commercial, not-home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74320" y="320040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9240" y="3200400"/>
            <a:ext cx="25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dergar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974320" y="32004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Word #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86560" y="315288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55200" y="32004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Word #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97280" y="31240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ci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30</cp:lastModifiedBy>
  <dcterms:modified xsi:type="dcterms:W3CDTF">2010-05-17T16:22:07Z</dcterms:modified>
  <cp:revision>16</cp:revision>
  <dc:subject/>
  <dc:title>Jeopardy</dc:title>
</cp:coreProperties>
</file>